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3A70-4382-46EA-824E-78E52DAB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9CC9-ABC7-4C5F-B5EF-65418008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6E9-F256-49BF-9948-C81C6D91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B40-B35A-4D42-B9A8-94F923C8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52E8-F58E-473C-942C-E7F5BF5F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578A-2471-42A5-9EFD-21E75671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0FF7-9D18-42A2-B936-6AF6A99C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C6C2-164E-4BE9-A32C-D786B5B2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8FA8-89BF-48FC-9108-4D955C0E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E449-CD96-42E1-8EC8-48CAFF78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A2A-6FEB-4688-B9FC-242BF4D5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663-2C96-48F8-BE2A-7DDC82B7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FFCE-7FD4-43B3-8023-3790D8E46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GIUNI GEOGRAFICE AFRICAN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- VALEA SI DELTA NILULU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- MUNTII ATLAS-MALUL MARII MEDITERAN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- MUNTII RUWENZORII-LACUL VICTO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6629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A SI DELTA NILULU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IPA NR.1 FORMAT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N ELEV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A MAR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EM V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LAVI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KOSI CRIS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NTII ATLAS MALUL MARII MEDITER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IPA NR. 2 FORMAT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IN ELEV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FLO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ZA R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AKI IU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Ţ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 IONU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NTII RUWENZORII-LACUL VICTO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IPA NR.3 FORMAT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N ELEV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C SEBA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MI IBOLY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LEA SIL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RCINI DE LUCRU CERU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chipa să –şi găsească un nume reprezentat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 identifice regiunea geografic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ă găsească cât mai multe elemente fizico-geografice specifice regiunii re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ă reprezinte regiunea geografică pe un suport folosind diverse materiale şi tehnici de lucru exprimând cel mai concret cu putinţă specificitatea locului prezen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Eval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n data fixată în prealabil, echipele vor prezenta pe rând lucrările, expunând în faţa clasei detaliile muncii 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4:16:40Z</dcterms:created>
  <dc:creator>ws06</dc:creator>
  <dc:description/>
  <dc:language>en-US</dc:language>
  <cp:lastModifiedBy>ws06</cp:lastModifiedBy>
  <dcterms:modified xsi:type="dcterms:W3CDTF">2009-12-10T16:20:46Z</dcterms:modified>
  <cp:revision>10</cp:revision>
  <dc:subject/>
  <dc:title>Diapozitivul 1</dc:title>
</cp:coreProperties>
</file>